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B247-E101-473E-BF5C-C547C7376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DD23-4CC1-43C7-9A15-9D60473FBB9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3DA2-C7D5-4F6F-8DF3-B86139A29FA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FAEA-ECA5-49FB-A758-B34106967978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9FD6-7CBF-4B55-8E5E-6E6B0D4A1BD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08E6-0246-4097-9AD0-BADE1FE00E7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5E63-E423-4DBB-97B0-85FE0462883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CC33-45AE-4DA0-B257-C3404A3BBFF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51CC-5383-4EB2-997B-5B68DB85430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3E48-F9DD-4D15-9BD5-576E4D99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9491-17B7-40A9-8F11-63AE2829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2F2-D13E-44A2-9113-D5BB4A4F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063-98B0-49FD-B17D-13CA3186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0CFC-5E22-4D1B-82CC-E831A512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E00F-4283-4A01-8098-A82E74ED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A7D5-6D06-455F-92DB-2CEBDB97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D60F-359D-4710-9EA6-DEDB12ED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8803-96A0-4FDE-860D-D2543A2E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0E1A-7235-4856-AB67-BC67AB3B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0D01-FA7D-484C-8FDC-7E5DBAE4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6A1-65D1-4872-8825-6C308205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89CA-D505-433C-BED2-D586CC10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45C2-F4C4-45E6-9AD5-2C07F9E5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6569-1620-4305-BD42-5524E7F8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A783-438B-416E-93D4-9DCF10E5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8CF3-88EF-488E-99D4-EC58503B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F1573-C01C-4578-AA1B-1602E5A2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D24D6-D221-4B6F-B955-2DCD9771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AC33C-ECE0-4DF9-B0EB-78961627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D8427-717D-499E-A33B-8E2A2EF6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8FB96-8EEF-4091-B3BA-208FAA4E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BE4-DAD8-4E1D-AF21-090C4FE3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F2D4E-B294-446D-BBCA-D35E882A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953DE-BF68-4BF6-B1D3-3D94449D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CF9AE-7FD5-41CE-88B1-D7021499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D5044-68CC-49B4-880A-1CCF96C1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0AC78-1BC8-443A-8258-1A75A08A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EA778-8CB5-4920-AD59-65F4D35E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70089-4CE7-4332-9C2D-0A2194D3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F3E-AE90-423B-950A-1C7C34F5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C807-710F-424B-B2F2-75810074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005-50A9-4A3E-A2A2-CF4368C6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1EC4-54B6-45DF-8860-C51B0381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B43C-B629-4410-92B9-33803C4E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0D66-7F29-48E4-B09B-0F56554A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02D8-211A-487D-A98F-72C7C0E43E9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D02B-4B32-4BE9-8110-02A6FA78C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9C97-86A1-49C6-8BD7-E9914E3AE11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.gov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ssess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nds in the Classro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ternative assessme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require active construction of meaning, not regurgitation of isolated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uthentic Assessm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focus on knowledge, thinking, &amp; skills seen in a real-life set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raditional Assessm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tests, quizz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 always ask myself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re do my students need to b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re are they now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can I help them close the gap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t the end of this class, you should be able t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termine why (purpose) you are assessing what (curriculum/standards) you are ass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 appropriate assessment metho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elop assessment methods appropriate for your instru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minister, score, and interpret the results of a teacher-produced assess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assessment results to make decisions about individual stud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elop valid student grading proced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 </a:t>
            </a: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C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ld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ft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hi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d state accoun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equate Yearly Progress (AYP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arental cho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A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te sets standa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te selects te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te indicates levels of proficien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vels of proficiency increase every 3 yea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higan Merit Ex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the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mi.go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ducation and Children’s Serv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ministrat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and Repor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AP Resul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AP Test Resul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ool &amp; District Summary Repor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ect a school distri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nt Fall 09 Grades 3-9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nt MME spring 200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Purpose of Assess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agnos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mm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nostic Assess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 student strengths/nee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lp plan for 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fore instruction begi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ool reco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bserv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-tes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estionnai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ive Assess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nitor grow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ring instru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bserv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izz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me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f-assess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estio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tive Assess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have students learn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ount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fter 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d of unit t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al project/perform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tewide tes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role of assessment in teach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ment documents what student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know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fluences lear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ment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F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ear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ment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f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ear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5" name="Group 17"/>
          <p:cNvGrpSpPr/>
          <p:nvPr/>
        </p:nvGrpSpPr>
        <p:grpSpPr>
          <a:xfrm>
            <a:off x="4185720" y="1676880"/>
            <a:ext cx="4923000" cy="4854240"/>
            <a:chOff x="4185720" y="1676880"/>
            <a:chExt cx="4923000" cy="4854240"/>
          </a:xfrm>
        </p:grpSpPr>
        <p:sp>
          <p:nvSpPr>
            <p:cNvPr id="156" name="AutoShape 16"/>
            <p:cNvSpPr/>
            <p:nvPr/>
          </p:nvSpPr>
          <p:spPr>
            <a:xfrm>
              <a:off x="4788720" y="2362320"/>
              <a:ext cx="3717000" cy="34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_s2068"/>
            <p:cNvSpPr/>
            <p:nvPr/>
          </p:nvSpPr>
          <p:spPr>
            <a:xfrm>
              <a:off x="4811040" y="2362320"/>
              <a:ext cx="3673080" cy="3483720"/>
            </a:xfrm>
            <a:prstGeom prst="pi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_s2069"/>
            <p:cNvSpPr/>
            <p:nvPr/>
          </p:nvSpPr>
          <p:spPr>
            <a:xfrm rot="7200000">
              <a:off x="4905360" y="2267640"/>
              <a:ext cx="3483720" cy="3673080"/>
            </a:xfrm>
            <a:prstGeom prst="pi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_s2071"/>
            <p:cNvSpPr/>
            <p:nvPr/>
          </p:nvSpPr>
          <p:spPr>
            <a:xfrm rot="14400000">
              <a:off x="4905360" y="2266920"/>
              <a:ext cx="3483720" cy="3673080"/>
            </a:xfrm>
            <a:prstGeom prst="pi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_s2066"/>
            <p:cNvSpPr/>
            <p:nvPr/>
          </p:nvSpPr>
          <p:spPr>
            <a:xfrm>
              <a:off x="7410600" y="2846520"/>
              <a:ext cx="1120320" cy="10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Asses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Stud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Understanding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_s2067"/>
            <p:cNvSpPr/>
            <p:nvPr/>
          </p:nvSpPr>
          <p:spPr>
            <a:xfrm>
              <a:off x="6086520" y="5023440"/>
              <a:ext cx="1120320" cy="10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Adjus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Instructio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_s2070"/>
            <p:cNvSpPr/>
            <p:nvPr/>
          </p:nvSpPr>
          <p:spPr>
            <a:xfrm>
              <a:off x="4761000" y="2846520"/>
              <a:ext cx="1120320" cy="10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Set Learning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Goal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1274400" y="457200"/>
            <a:ext cx="67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ndy"/>
              </a:rPr>
              <a:t>Keys to Quality Classroom Assessment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848520" y="1603440"/>
            <a:ext cx="2997000" cy="106956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hy Asses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urpos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o will use the result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562720" y="1447920"/>
            <a:ext cx="2835000" cy="137448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ess Wha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are the learning goa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e they clear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3513240" y="3505320"/>
            <a:ext cx="2160360" cy="106956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ess Ho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metho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3130560" y="5181480"/>
            <a:ext cx="3109680" cy="106956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municate Ho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nage informatio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port how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Line 22"/>
          <p:cNvSpPr/>
          <p:nvPr/>
        </p:nvSpPr>
        <p:spPr>
          <a:xfrm>
            <a:off x="1905120" y="289548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Line 23"/>
          <p:cNvSpPr/>
          <p:nvPr/>
        </p:nvSpPr>
        <p:spPr>
          <a:xfrm flipH="1">
            <a:off x="5791320" y="32767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457200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lu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pretation of what has been gather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dgments made about perform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criteria you are us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T relate to learning go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the research say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od instruction engages students in activ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s connect new information with existing knowled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fective assessment promotes this 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constantly assess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ive feedback is essent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18:19:03Z</dcterms:created>
  <dc:creator>emu</dc:creator>
  <dc:description/>
  <dc:language>en-US</dc:language>
  <cp:lastModifiedBy>EMU User</cp:lastModifiedBy>
  <dcterms:modified xsi:type="dcterms:W3CDTF">2010-09-13T11:10:03Z</dcterms:modified>
  <cp:revision>13</cp:revision>
  <dc:subject/>
  <dc:title>The role of assessment in teaching</dc:title>
</cp:coreProperties>
</file>